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7621588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D47-D8E1-4293-9392-ABD49BA4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5900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9EC-783D-49E5-B3A1-761C5AA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7EE-E939-4E5B-A527-844F1D93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11E-AA01-42D1-9948-5E80F085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E3F-981E-4342-B992-144A7600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A4C-7961-44BD-9ADC-8209808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54B-A125-4112-AFC3-ACE4CCFD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02E-E241-4941-BFEE-21B0EDFA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77880"/>
            <a:ext cx="84200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D3E-85DA-4B78-A997-BA3E968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090-917D-4F60-BD57-CDF1DFE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41D-B368-4754-9E11-CF4D3BF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738-E4A5-4FA0-AF42-2BC125D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505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2505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941880"/>
            <a:ext cx="206352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941880"/>
            <a:ext cx="31366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941880"/>
            <a:ext cx="20638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9991BD91-C6AC-4907-9089-0591D96F6DE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7643520"/>
            <a:chOff x="0" y="0"/>
            <a:chExt cx="9905760" cy="76435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577800" cy="75502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111080"/>
              <a:ext cx="9905760" cy="5324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ancma" descr=""/>
            <p:cNvPicPr/>
            <p:nvPr/>
          </p:nvPicPr>
          <p:blipFill>
            <a:blip r:embed="rId1"/>
            <a:stretch/>
          </p:blipFill>
          <p:spPr>
            <a:xfrm>
              <a:off x="0" y="6234120"/>
              <a:ext cx="16506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33400" y="7111080"/>
              <a:ext cx="3466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650960" y="2709720"/>
            <a:ext cx="73468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3100" spc="-1" strike="noStrike">
                <a:solidFill>
                  <a:srgbClr val="3366ff"/>
                </a:solidFill>
                <a:latin typeface="Tahoma"/>
                <a:ea typeface="Times New Roman"/>
              </a:rPr>
              <a:t>MOPED EMISSION FACTO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ahoma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NON REGULATED POLLUT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PARTICULATE MA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olo Albu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Roma, 16 gennai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147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cma Verde" descr=""/>
          <p:cNvPicPr/>
          <p:nvPr/>
        </p:nvPicPr>
        <p:blipFill>
          <a:blip r:embed="rId2"/>
          <a:stretch/>
        </p:blipFill>
        <p:spPr>
          <a:xfrm>
            <a:off x="4292640" y="84240"/>
            <a:ext cx="2063880" cy="167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7800" y="1778040"/>
            <a:ext cx="9328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ntique Olive"/>
                <a:ea typeface="Times New Roman"/>
              </a:rPr>
              <a:t>Associazione Nazionale Ciclo Motociclo Access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0240" y="2624040"/>
            <a:ext cx="908064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0240" y="4741920"/>
            <a:ext cx="9080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43040" y="1158840"/>
            <a:ext cx="883260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 scopo di individuare l’ordine di grandezza delle emissioni di particolato dei ciclomotori, sono stati testat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 ciclomotori us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 percorrenza media d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rca 6.500k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tenuti rappresentativi delle tecnologie attualmente disponibili sul mercato, dal tipo “convenzionale” (2-tempi a carburazione non catalizzato) ai tipi più “avanzati” (2-tempi ad iniezione diretta e 4-temp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’analoga ricerca sui motocicli è stata condotta da ACEM (Associazione dei Costruttori Europei di Motocicl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55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62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040" y="1158840"/>
            <a:ext cx="883260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misurazione gravimetrica della massa di particolato emesso durante il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iclo dinamico ECE-47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è stata eseguita secondo le prescrizioni della direttiv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91/441/CE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elativa agli autoveicoli, opportunamente modificate. Sono quindi stati prelevati, in condizioni di isocinetismo, in un mini tunnel di diluizione (d=97mm, L=160cm), flussi di gas di scarico che, inviati su filtri “pallflex”, depositano il particolato. Durante l’esecuzione del ciclo di guida, il gas è stato inviato su due diverse serie di filtri per individuare il quantitativo prodotto durante le prime 4 rampe (simulazione dell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artenza a fred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e le ultime 4 ramp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simulazione dell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artenza a cal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del cic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71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3040" y="1158840"/>
            <a:ext cx="88326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emporaneamente sono state misurate le emissioni gassose “regolamentate” (CO, HC, NO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esatura dei filtri, dopo 24h di permanenza in essiccatore con gel di silice, fornisce la massa di particolato su di essi deposit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Ogni veicolo è stato testato 4 vol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rove ANCMA sono state eseguite presso Stazione Sperimentale Combustibili di S. Donato (MI), le prove ACEM presso Ricardo (UK), utilizzando l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azione di misura ed analisi impiegat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le prove di omologazione dei vei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80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82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20880" y="6405480"/>
            <a:ext cx="8832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GENERALE DEL SISTEMA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sc2-2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8534160" cy="5378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90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614600"/>
          <a:ext cx="8686800" cy="234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14600"/>
                    <a:ext cx="86868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13800" y="9288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4132440"/>
          <a:ext cx="8705880" cy="2039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4132440"/>
                    <a:ext cx="870588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03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152280" y="1219320"/>
          <a:ext cx="11277360" cy="58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19320"/>
                    <a:ext cx="1127736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13800" y="9288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14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395280"/>
          <a:ext cx="9953640" cy="682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95280"/>
                    <a:ext cx="995364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24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371600"/>
            <a:ext cx="883296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iclomotori catalizzati abbattono il particolato di circa i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7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petto ai ciclomotori 2 tempi “tradizionali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iclomotori di tecnologia “avanzata” abbattono il particolato di circa i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petto ai ciclomotori 2 tempi “tradizionali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sendo già oggi al di sotto del limite EURO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e entrerà in vigore nel 2005 per gli autoveicol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emissioni di particolato sembrano correlate alle emissioni di HC, per cui l’inasprimento dei limiti omologativi (Euro2, Euro3) porterà un ulteri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lioramento delle “performance” ambienta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i ciclomotori anche per il particol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4520" y="9288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20:47:06Z</dcterms:created>
  <dc:creator>Ancma</dc:creator>
  <dc:description/>
  <dc:language>en-US</dc:language>
  <cp:lastModifiedBy>Ancma</cp:lastModifiedBy>
  <dcterms:modified xsi:type="dcterms:W3CDTF">2003-01-15T21:38:21Z</dcterms:modified>
  <cp:revision>227</cp:revision>
  <dc:subject/>
  <dc:title>Presentazione di PowerPoint</dc:title>
</cp:coreProperties>
</file>